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C8D0-F4A3-4A9B-98E8-A752F88A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A1AB-E128-4554-83AD-A784EBAB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0152-BCE7-4443-8E8D-340E96E6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2CBC-0F2B-4617-BC8D-DAA75D27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27BB-4115-4CA8-B8FB-6C9DB59D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9DE8-C3D2-4BD2-B371-889DBBDC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CDB9-56C0-4CD3-A433-E51E619A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D43A-EC92-4AFA-9269-2CB2DC2D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5937-71D2-4DA3-B978-86006A60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2BAB-D5C1-4C3D-876B-DE263F5D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1CE2-9AF1-433D-9223-8A780FAD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F60B-E8A8-4F70-B454-AE395180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5C8A-E7A0-4BB1-AE62-100CC321793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980640"/>
            <a:ext cx="8424720" cy="482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ب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 أساليب التحليل الكمي المستخ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تحليل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E358-1402-481F-9239-25ED18980755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تحلي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455920"/>
            <a:ext cx="358164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مشرو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3809880"/>
            <a:ext cx="3581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صنا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15772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ستوى العالم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BD4F-7FC1-4DD2-85C1-DB2ABF1DEC6E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41600" y="1477800"/>
            <a:ext cx="7660800" cy="10314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ساليب المستخدم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6560" y="3366720"/>
            <a:ext cx="7585200" cy="2162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قارنات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عدلات التغي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توسط النس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EA45-BFEA-4548-B06D-C62CF1085BF9}" type="slidenum">
              <a:t>3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203120"/>
            <a:ext cx="7772760" cy="763920"/>
          </a:xfrm>
          <a:prstGeom prst="rect">
            <a:avLst/>
          </a:prstGeom>
          <a:gradFill rotWithShape="0">
            <a:gsLst>
              <a:gs pos="0">
                <a:srgbClr val="e7e5e1"/>
              </a:gs>
              <a:gs pos="50000">
                <a:srgbClr val="ffffcc"/>
              </a:gs>
              <a:gs pos="100000">
                <a:srgbClr val="e7e5e1"/>
              </a:gs>
            </a:gsLst>
            <a:lin ang="5400000"/>
          </a:gra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نزعة المركزية (المتوسطا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492280"/>
            <a:ext cx="7772400" cy="381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توسط  = المجموع/العدد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خاصة على مستوى الصنا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وسيط = عدد المرات +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 /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نوال = القيمة الاكثر شيوع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9992-DC89-4337-B6F0-CE1344F5E405}" type="slidenum">
              <a:t>4</a:t>
            </a:fld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11280" y="1699920"/>
            <a:ext cx="7772760" cy="912240"/>
          </a:xfrm>
          <a:prstGeom prst="rect">
            <a:avLst/>
          </a:prstGeom>
          <a:gradFill rotWithShape="0">
            <a:gsLst>
              <a:gs pos="0">
                <a:srgbClr val="c7cfc1"/>
              </a:gs>
              <a:gs pos="50000">
                <a:srgbClr val="ffffff"/>
              </a:gs>
              <a:gs pos="100000">
                <a:srgbClr val="c7cfc1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اختلاف والتشت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1400" y="3571920"/>
            <a:ext cx="7716960" cy="23781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e7e5e1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عرفة مدى تجمع قيم النسب المالية أو تشتتها حول المتوسط الحسابي عن طريق حساب الانحراف المعياري لكل نسبة من النس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E7DD-DA56-4FA8-9EBD-BB6EA8261C69}" type="slidenum">
              <a:t>5</a:t>
            </a:fld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1058760"/>
            <a:ext cx="777276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اقات الارتباط والانحد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2920" y="2427120"/>
            <a:ext cx="8893080" cy="402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رتباط هو التلازم بين متغيرين تلازما كميا بحيث تؤدي الزيادة في أحد المتغيرين الى زيادة المتغير الآخر أو العك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يقاس عن طريق حساب معامل ارتباط بيرسون أو سبيرم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قربه من الواحد الصحيح يشير الى وجود ارتباط قوي موجب بين المتغير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641664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1935-6239-4BDA-B927-40AED8B5720A}" type="slidenum">
              <a:t>6</a:t>
            </a:fld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Abu-Ali</cp:lastModifiedBy>
  <dcterms:modified xsi:type="dcterms:W3CDTF">2004-04-06T17:12:41Z</dcterms:modified>
  <cp:revision>22</cp:revision>
  <dc:subject/>
  <dc:title>التحليل المالي والائتماني</dc:title>
</cp:coreProperties>
</file>